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8BBD8-3FCA-42C9-B421-4451BF1F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6EDD-D6C8-4021-B2E2-2946F61F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89F1-D53F-422C-B4F8-19D61A72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9BB0E-123B-406F-A732-7214932B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280C-AD4E-4A2D-95E0-FBC1946A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6AF5-D777-422F-80CF-BA467B8B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DC88-C5B2-4B58-9EE6-E393D189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8ECC-47E8-421F-BBD2-F16CF0C9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AC68-A06C-4A5D-ADE5-E2E69F67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79CA-53AE-4F3C-A78A-A865AFA1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B814-1028-47CD-9603-CB42D9D2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9693-FB58-4A54-943A-669C867E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D067-115C-4B2B-9A4F-DBDD8D1C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754E-45FF-48C9-A759-EB862F7A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08E6-D788-4CF8-9DA8-2B456E60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FC28-183B-4EF4-940E-0B5640A5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BDE9-E4DB-4958-B5C3-482C3E26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C8C49-0D5E-4CBC-A6E9-F6EB268F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1702E-4E4A-4DF9-AD83-14B04DAA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C1CC9-4DCB-4F6C-8E07-F479C433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04528-BAC3-4953-8D93-F16AC8DF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DACA2-1DA6-489D-B935-D70B26C3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DCD4-1DC5-4A91-8171-6DA80946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8C893-C8EF-409E-994F-927DEAAB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D18B-FE2E-4B07-8EB6-C320CC8240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98EA-2A00-492C-B9AA-266C5BA620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ll Cipher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olygraphic cipher was developed by the mathematician Lester Hill in 1929 - called the Hill Cip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cessive plaintext letters and substitutes for them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phertex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56691-0468-4C62-B15E-1EDE2E4945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3276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haracter is assigned a numerical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, b = 1, . . ., z = 2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the transformation of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iven by 3 equation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80320" y="4700520"/>
            <a:ext cx="364068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2560" y="4664160"/>
            <a:ext cx="3841560" cy="1561680"/>
            <a:chOff x="1942560" y="4664160"/>
            <a:chExt cx="3841560" cy="1561680"/>
          </a:xfrm>
        </p:grpSpPr>
        <p:grpSp>
          <p:nvGrpSpPr>
            <p:cNvPr id="119" name=""/>
            <p:cNvGrpSpPr/>
            <p:nvPr/>
          </p:nvGrpSpPr>
          <p:grpSpPr>
            <a:xfrm>
              <a:off x="3794040" y="4664160"/>
              <a:ext cx="1990080" cy="1561680"/>
              <a:chOff x="3794040" y="4664160"/>
              <a:chExt cx="1990080" cy="1561680"/>
            </a:xfrm>
          </p:grpSpPr>
          <p:sp>
            <p:nvSpPr>
              <p:cNvPr id="120" name=""/>
              <p:cNvSpPr/>
              <p:nvPr/>
            </p:nvSpPr>
            <p:spPr>
              <a:xfrm>
                <a:off x="3794040" y="472104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84240" y="469260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374800" y="466416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94040" y="526392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84240" y="523548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74800" y="5207040"/>
                <a:ext cx="409320" cy="408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94040" y="581652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84240" y="5788080"/>
                <a:ext cx="409320" cy="408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74800" y="575928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942560" y="528480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K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42B09-C129-4032-BF24-EFF9CA8112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160" y="1636560"/>
            <a:ext cx="774396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ll cipher is really a matrix multipl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ciphering key is an n x n matrix,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iphering key is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n = 3 one possible ke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053000" y="4057560"/>
            <a:ext cx="3120120" cy="1074240"/>
            <a:chOff x="1053000" y="4057560"/>
            <a:chExt cx="3120120" cy="1074240"/>
          </a:xfrm>
        </p:grpSpPr>
        <p:sp>
          <p:nvSpPr>
            <p:cNvPr id="133" name=""/>
            <p:cNvSpPr/>
            <p:nvPr/>
          </p:nvSpPr>
          <p:spPr>
            <a:xfrm>
              <a:off x="1706400" y="4214880"/>
              <a:ext cx="24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7  17  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1  18 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   2  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53000" y="4057560"/>
              <a:ext cx="2974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 =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978440" y="4073400"/>
            <a:ext cx="3331800" cy="1034640"/>
            <a:chOff x="4978440" y="4073400"/>
            <a:chExt cx="3331800" cy="1034640"/>
          </a:xfrm>
        </p:grpSpPr>
        <p:sp>
          <p:nvSpPr>
            <p:cNvPr id="136" name=""/>
            <p:cNvSpPr/>
            <p:nvPr/>
          </p:nvSpPr>
          <p:spPr>
            <a:xfrm>
              <a:off x="5843520" y="4191120"/>
              <a:ext cx="24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  9  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5  17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4   0  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78440" y="4073400"/>
              <a:ext cx="3183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341720" y="547992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   ‘n o 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8520" y="5705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14 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19560" y="5310360"/>
            <a:ext cx="4036320" cy="1458360"/>
            <a:chOff x="3319560" y="5310360"/>
            <a:chExt cx="4036320" cy="1458360"/>
          </a:xfrm>
        </p:grpSpPr>
        <p:sp>
          <p:nvSpPr>
            <p:cNvPr id="141" name=""/>
            <p:cNvSpPr/>
            <p:nvPr/>
          </p:nvSpPr>
          <p:spPr>
            <a:xfrm>
              <a:off x="3319560" y="5334120"/>
              <a:ext cx="2854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351240" y="5310360"/>
              <a:ext cx="4004640" cy="801720"/>
              <a:chOff x="3351240" y="5310360"/>
              <a:chExt cx="4004640" cy="801720"/>
            </a:xfrm>
          </p:grpSpPr>
          <p:sp>
            <p:nvSpPr>
              <p:cNvPr id="143" name=""/>
              <p:cNvSpPr/>
              <p:nvPr/>
            </p:nvSpPr>
            <p:spPr>
              <a:xfrm>
                <a:off x="4398840" y="5343840"/>
                <a:ext cx="366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3351240" y="5310360"/>
                <a:ext cx="4004640" cy="801720"/>
                <a:chOff x="3351240" y="5310360"/>
                <a:chExt cx="4004640" cy="801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511080" y="5446800"/>
                  <a:ext cx="9122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7 17  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1 18 2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  2 1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351240" y="5310360"/>
                  <a:ext cx="366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820400" y="5343840"/>
                  <a:ext cx="2535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) = ( )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od 2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30720" y="5337360"/>
                  <a:ext cx="366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618440" y="5470560"/>
                  <a:ext cx="3636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36320" y="5451480"/>
                  <a:ext cx="3636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1" name=""/>
          <p:cNvGrpSpPr/>
          <p:nvPr/>
        </p:nvGrpSpPr>
        <p:grpSpPr>
          <a:xfrm>
            <a:off x="5600160" y="6068520"/>
            <a:ext cx="842040" cy="791640"/>
            <a:chOff x="5600160" y="6068520"/>
            <a:chExt cx="842040" cy="791640"/>
          </a:xfrm>
        </p:grpSpPr>
        <p:sp>
          <p:nvSpPr>
            <p:cNvPr id="152" name=""/>
            <p:cNvSpPr/>
            <p:nvPr/>
          </p:nvSpPr>
          <p:spPr>
            <a:xfrm>
              <a:off x="5600160" y="640044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u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013440" y="6068520"/>
              <a:ext cx="0" cy="4921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AB93-D4C1-48F3-BA36-59F7280FD9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78740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 will create a Hill cipher for groups of 2 to 6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90720" y="3552840"/>
            <a:ext cx="4735440" cy="3068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381560" y="3583080"/>
            <a:ext cx="1390680" cy="676080"/>
          </a:xfrm>
          <a:prstGeom prst="wedgeRoundRectCallout">
            <a:avLst>
              <a:gd name="adj1" fmla="val -43722"/>
              <a:gd name="adj2" fmla="val 60796"/>
              <a:gd name="adj3" fmla="val 1666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First, enter the group size – which is the same as the matrix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1160" y="3068640"/>
            <a:ext cx="1390680" cy="676440"/>
          </a:xfrm>
          <a:prstGeom prst="wedgeRoundRectCallout">
            <a:avLst>
              <a:gd name="adj1" fmla="val -43722"/>
              <a:gd name="adj2" fmla="val 60796"/>
              <a:gd name="adj3" fmla="val 1666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CAP will generate a matrix for you or you can load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58EE-3989-4094-9163-7768ECC3EA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8T02:53:41Z</dcterms:modified>
  <cp:revision>68</cp:revision>
  <dc:subject/>
  <dc:title>CAP Cryptographic Analysis Program</dc:title>
</cp:coreProperties>
</file>